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E7FB-EDC3-4F95-AF5F-872CC5C1FB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. Компьютер. Информа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ервичное понятие об информации, информатике и компьют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учебником; дать представление о предмете из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3176-3783-4BD9-9A9F-70C9D850CD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я книгу, мы тоже получаем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85B5-E13E-4A54-91BD-98E2D84808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ного звуков ловят уши: И шум машин, и лай собак, И гомон воробьиных драк, мычание кор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нформация такая Зовется просто —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звук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D147-B682-4B6F-90FE-CE2B09E3D8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уя с друзьями, можно узнать много но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E445-A14C-4DEE-AD56-ABC12DC769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Информаци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и данные об окружающем нас ми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E870-0C90-4CE3-9CA6-52E2A02176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omic Sans MS"/>
              </a:rPr>
              <a:t>Виды представ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2540-E056-49A4-94E4-79F7990D7A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кусе пищи узнаем, Когда во рту ее жуем. А информация какая, Ты догадался?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кусо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6722-2243-447A-A33C-FD43243080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ите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FD83-AE1C-4023-83F3-759BC8F917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FA79-1190-45AE-B570-4CCFA324FE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ти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BC82-36B7-438C-A860-B1440B6CA3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няте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цветут в лесу цветы, То запах носом чуешь ты. И аромат акации Опять же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9825-9100-410F-8F7F-257FD60215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техник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981B-A1D7-416F-98B7-680EF10CF0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Органы чувств челове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№ 1: назовите 5 чувств, с помощью которых человек воспринимает информацию из окружающе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№ 2: какими органами чувств воспринимается информац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6634-E1C0-4A2A-828D-90562DCD16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а о принципах, законах и методах решения этих задач, накопления, обработки и хранения информации с использованием компьютера называется информа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BA5D-24F1-4E6C-A630-874E160532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66F1-9120-43AA-84A4-C07B18CEDC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осе не обходятся без компью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FC4C-A65A-4A80-A7A7-235FC8BE47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, № 5 (учебн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( Р.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1B39-A498-4A0E-9699-B445899420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дение ит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загадки отгад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еселее отвеч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ней ты слышал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есет учитель в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звучит по 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это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радио включае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музыка игра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нформацию ка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лучаем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фильм по телевидению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зьями вместе ви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т мультипликация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маем пробу с разных блю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ни нам разный вкус даю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Во время дегуст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Какая информация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осим руки мы к костр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рнем, чувствуя жа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гновенная реа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этой информ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7048-168E-4C99-88AB-FEA98FA40F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§ 1.1. с.7-10, § 2.2, РТ: №1, № 2 – с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D6A8-D544-4DCA-B145-EF33CAE521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E529-2C43-4921-A5C0-D90449C3F7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мы узнаем что-то новое, иными словами, мы получаем информацию. Например, глядя в окно, мы можем определить какое время года за ок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255B-C915-465C-B9AE-765357FFF1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E0D-034B-474D-8C32-EA28516F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6C1-2B09-4118-A685-5B94E8C1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D7B-A03A-45B4-83BF-FF34AADA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587-826C-4DEA-BA3C-ADE32E3D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38AF-3F04-4026-8559-C59DF94C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E5ED-781A-4FBB-8D20-1BCE358B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694C-C96B-4701-BCA3-8F5CF83F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EB6B-4364-4DBA-A6CA-FDF8B5D7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A804-EEAF-4AF9-B595-93498296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3391-ECA7-430E-A157-33CE40DD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5A58-A582-4E2C-8F23-D703802C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0FD-F3ED-48CE-B747-04CC5063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698E-1041-41F3-A3D0-71A564B3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479B-E517-48E8-A47E-CDF52E48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5F80-8B44-48F3-9E6A-046DA158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AE7D-6995-4523-A5F4-1E5EECE7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38CA-9A1D-4FDB-94D0-1E63FD7B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B923E-0A61-44DD-83A0-69BB0322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1CFE1-B728-493F-A517-40299130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F801C-D102-48C5-B3D8-194D9D0E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8E8A9-F064-4C6D-9E99-FF94C7F7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63EA0-9FF4-4B96-A6CC-54DB629F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085-FC0A-4851-9BDB-35661545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DA42D-C56B-46D7-AE52-D8749D46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3B0A2-C340-40F7-AC77-4A99B174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9E464-4F9C-4979-ADDF-229A0DD4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45608-380F-4A6E-8B7B-C308DFD2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F8262-807B-4B35-9E8F-EE07C736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56252-4251-47DE-9E90-8C90BCDB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01DB8-E5B7-491F-A562-38F89AF3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36F03-1307-42E9-A307-737695C2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08CC0-6226-4CDC-A0CE-D620ED57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A4488-14E8-43B1-AEF2-EAC5F48B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FB3-8E6A-4689-AFEE-B4E1B819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1EB57-8982-44A8-A7C3-CD183F3D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E8EB2-13C3-4F81-8B6F-CE582D7F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E0E7D-1B5C-4CE3-B689-EDC59DDC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488B6-5C37-461E-8EF3-EE1E4E54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5CAA0-7851-4335-AB01-B0DBA5F3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40D89-D81B-480C-A37E-7DAE4174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DEEFB-72B3-4988-B770-FD386459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92C10-9B31-473C-A870-88BF2C0A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B0F2E-72E3-4DFD-93E2-40315CAD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B5BD8-21B1-4DC5-9258-C0915A18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BAF-9F69-489F-8DDA-77038439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60238-AC37-4F66-9787-6184C4DE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C1F48-E0D9-4B20-9035-C26C02F5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B936E-94F0-425D-AD93-94384FA1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826C4-97D8-461A-9DD0-4EF2048E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0DE79-0C12-409E-AFA1-1306D7E9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1CF60-F1C3-40C8-99C6-C0DF5773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1A874-AE04-4884-B43B-6DE37153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04081-4C3E-445B-B33F-529C55D9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9F8DA-9287-4DEF-A71E-0FEDE7C7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27EB0-DAD6-4718-9657-2D4466BF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933-463D-4A3D-8F18-EF064B8B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659B6-2D42-478B-A1D6-DCD1FD3B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94123-38BA-490E-B322-1F2585B1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61E77-B917-4777-AE8D-03B39FA0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AE259-D46C-47C4-B6B8-A693A164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6233A-B608-4C5C-AA7A-E876A0DC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82BBB-37A9-4252-9C29-1461E9F3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D9473-0B7A-4B38-88A7-97FCE338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8F1F2-639A-4BCF-A861-DA03E4FD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36830-FB33-4B42-B0FF-4C8014FE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C8C69-50A4-4128-B5C5-72C12CA8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245-C832-4E2D-BDDE-8C453CCF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8FF01-6A12-4C45-AD67-878A297E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AE24C-6A61-4BA9-B6C8-AB20AAAA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31BBC-BDF5-483D-A48A-0C268AC1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F64-A4D3-47D3-A5FC-DF12725D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F0D-0CC2-4E1E-B66F-7493B374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AA94-D7D3-45E8-BBEE-D010A3104B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8120-6ACD-490D-9966-B50A67F7671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D96F-4184-46DC-B670-21FCA3D0A7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FA75-7BC2-4146-8582-208A0F0EBD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0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C983-3A6C-471A-90CC-BDC10F4C639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6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E2AE-3186-49B0-B4F5-17A732EAF2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Информация. Компьютер. Информатика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: первичное понятие об информации, информатике и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учащихся с учебником; дать представление о предмете из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03848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итая книгу, мы тоже получаем информацию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2843280" y="2133720"/>
          <a:ext cx="547380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133720"/>
                    <a:ext cx="547380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 много звуков ловят уши: И шум машин, и лай собак, И гомон воробьиных драк, мычание коров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 информация такая Зовется просто —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звуковая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4648320" y="2381400"/>
          <a:ext cx="4038480" cy="29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1400"/>
                    <a:ext cx="4038480" cy="29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еседуя с друзьями, можно узнать много новог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4648320" y="177012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7012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c85e"/>
                </a:solidFill>
                <a:latin typeface="Comic Sans MS"/>
              </a:rPr>
              <a:t>Информация -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ведения и данные об окружающем нас мир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Виды представления информаци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кусов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313080" y="1655640"/>
          <a:ext cx="460872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3080" y="1655640"/>
                    <a:ext cx="460872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4"/>
          <p:cNvSpPr/>
          <p:nvPr/>
        </p:nvSpPr>
        <p:spPr>
          <a:xfrm>
            <a:off x="611280" y="2065320"/>
            <a:ext cx="24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вкусе пищи узнаем, Когда во рту ее жуем. А информация какая, Ты догадался?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кусова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ите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8" name="Object 3"/>
          <p:cNvGraphicFramePr/>
          <p:nvPr/>
        </p:nvGraphicFramePr>
        <p:xfrm>
          <a:off x="2332080" y="1600200"/>
          <a:ext cx="44784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1600200"/>
                    <a:ext cx="44784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вуков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72" name="Object 3"/>
          <p:cNvGraphicFramePr/>
          <p:nvPr/>
        </p:nvGraphicFramePr>
        <p:xfrm>
          <a:off x="2308320" y="1600200"/>
          <a:ext cx="45259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1600200"/>
                    <a:ext cx="45259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акти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76" name="Object 3"/>
          <p:cNvGraphicFramePr/>
          <p:nvPr/>
        </p:nvGraphicFramePr>
        <p:xfrm>
          <a:off x="2292480" y="1600200"/>
          <a:ext cx="4557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2480" y="1600200"/>
                    <a:ext cx="4557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боняте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3851280" y="1484280"/>
          <a:ext cx="4678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484280"/>
                    <a:ext cx="4678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4"/>
          <p:cNvSpPr/>
          <p:nvPr/>
        </p:nvSpPr>
        <p:spPr>
          <a:xfrm>
            <a:off x="684360" y="3281400"/>
            <a:ext cx="241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цветут в лесу цветы, То запах носом чуешь ты. И аромат акации Опять же информ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накомство с техникой безопасност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3"/>
          <p:cNvGraphicFramePr/>
          <p:nvPr/>
        </p:nvGraphicFramePr>
        <p:xfrm>
          <a:off x="1116000" y="189000"/>
          <a:ext cx="636912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9000"/>
                    <a:ext cx="636912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гра «Органы чувств человека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чка № 1: назовите 5 чувств, с помощью которых человек воспринимает информацию из окружающего мира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чка № 2: какими органами чувств воспринимается информация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нформатик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наука о принципах, законах и методах решения этих задач, накопления, обработки и хранения информации с использованием компьютера называется информатик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менение компьют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181840" cy="537372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 космосе не обходятся без компьютер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714920" cy="5029200"/>
          </a:xfrm>
          <a:prstGeom prst="rect">
            <a:avLst/>
          </a:prstGeom>
          <a:ln w="0">
            <a:noFill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крепление изученно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, № 5 (учебник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 ( Р.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ерь загадки отгад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еселее отве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ней ты слышал много раз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е несет учитель в клас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звучит по 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это?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радио включа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м музыка игр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информацию как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получаем?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льтфильм по телевидению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друзьями вместе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ую информа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сет мультипликация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имаем пробу с разных блю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Они нам разный вкус даю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Во время дегуст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Какая информация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носим руки мы к костр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дернем, чувствуя жа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гновенная реа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этой информац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дание на до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§ 1.1. с.7-10, § 2.2, РТ: №1, № 2 – с.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3" descr="ТБ4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ТБ3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ТБ2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508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ТБ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6896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Безымянный"/>
          <p:cNvPicPr/>
          <p:nvPr/>
        </p:nvPicPr>
        <p:blipFill>
          <a:blip r:embed="rId1"/>
          <a:stretch/>
        </p:blipFill>
        <p:spPr>
          <a:xfrm>
            <a:off x="179280" y="404640"/>
            <a:ext cx="8964720" cy="602460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зучение нового материа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нформация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й день мы узнаем что-то новое, иными словами, мы получаем информацию. Например, глядя в окно, мы можем определить какое время года за окн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4:59:45Z</dcterms:created>
  <dc:creator>Сервер</dc:creator>
  <dc:description/>
  <dc:language>en-US</dc:language>
  <cp:lastModifiedBy>LEGION</cp:lastModifiedBy>
  <dcterms:modified xsi:type="dcterms:W3CDTF">2015-04-01T07:37:12Z</dcterms:modified>
  <cp:revision>9</cp:revision>
  <dc:subject/>
  <dc:title>Информация. Компьютер. Информатика.</dc:title>
</cp:coreProperties>
</file>